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media/image5.png" ContentType="image/png"/>
  <Override PartName="/ppt/media/image10.wmf" ContentType="image/x-wmf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D1D8-9555-47F6-A1F6-CBCD6BDA3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44E2-C531-46C1-B943-7C9FB088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226E-F5FA-473F-892D-0C43FBE28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D2CC-324F-4CDA-BB0A-881FC9123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C8C2-6239-40BE-BAB4-0584D72C9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BC84-6C74-4CED-865D-E622020B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8F84-427E-4894-9858-7EF4CE1A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BBDC-BE41-4F76-AE72-6B3D1B39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242F-8E68-4F27-88C8-F80A26AC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DCE3-6CCA-4148-AF56-365899D1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C799-7E0A-4D7B-885A-5FCCAF16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2CE3-5A55-4ABF-8F70-9536A414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28F4-70CA-4D28-8BB2-8A4A1E93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5BA8-E22A-4A9E-A04C-C8603F46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B057-D24D-4ED6-998C-93B95495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07B6-29D4-468F-9EEE-2E16FF85D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727C-3AB6-4C83-A50B-D1A786AA9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98FA-0FE9-4754-BC5E-34B6C272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E4B7-AC92-413A-B5B9-78F8ED88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D14F-50BB-49CD-91D5-AC8D2F8D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BDEC-D782-4D24-8848-1C716ABA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258C-49A2-4DE9-B38A-6D55163E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BB83-C263-4845-976A-924CF3D0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62BC-B5F1-4A89-9A46-E00046FD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1EBB-7918-47BB-998A-7AD04AF6000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5A93-D2E8-44E6-AA95-BB3A65ADFAC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990720" y="1752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MANAGEMENT OF BACTERIAL KIDNEY DISEASE WITH THE “NEW” KIRKEGAARD AND PERRY ANTIBODI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330984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oberta Scott, Douglas Munson,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d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Keith Johns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131760" y="149400"/>
          <a:ext cx="8886960" cy="66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760" y="149400"/>
                    <a:ext cx="8886960" cy="66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ELISAantigencapture" descr=""/>
          <p:cNvPicPr/>
          <p:nvPr/>
        </p:nvPicPr>
        <p:blipFill>
          <a:blip r:embed="rId1"/>
          <a:stretch/>
        </p:blipFill>
        <p:spPr>
          <a:xfrm>
            <a:off x="2646360" y="833400"/>
            <a:ext cx="3851280" cy="51894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253760" y="4689360"/>
            <a:ext cx="25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Coating Antibod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710600" y="3851280"/>
            <a:ext cx="195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BKD Antige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87080" y="1565280"/>
            <a:ext cx="170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Conjugat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Antibod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85480" y="34596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Color Reac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24280" y="190512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52880" y="685800"/>
            <a:ext cx="685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rot="10800000">
            <a:off x="4419720" y="3504240"/>
            <a:ext cx="838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0800000">
            <a:off x="4010400" y="4567680"/>
            <a:ext cx="26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410080" y="762120"/>
            <a:ext cx="685800" cy="685800"/>
          </a:xfrm>
          <a:custGeom>
            <a:avLst/>
            <a:gdLst/>
            <a:ahLst/>
            <a:rect l="l" t="t" r="r" b="b"/>
            <a:pathLst>
              <a:path w="432" h="432">
                <a:moveTo>
                  <a:pt x="0" y="192"/>
                </a:moveTo>
                <a:lnTo>
                  <a:pt x="144" y="288"/>
                </a:lnTo>
                <a:lnTo>
                  <a:pt x="144" y="432"/>
                </a:lnTo>
                <a:lnTo>
                  <a:pt x="240" y="384"/>
                </a:lnTo>
                <a:lnTo>
                  <a:pt x="432" y="384"/>
                </a:lnTo>
                <a:lnTo>
                  <a:pt x="384" y="240"/>
                </a:lnTo>
                <a:lnTo>
                  <a:pt x="432" y="144"/>
                </a:lnTo>
                <a:lnTo>
                  <a:pt x="192" y="0"/>
                </a:lnTo>
                <a:lnTo>
                  <a:pt x="0" y="19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86400" y="685800"/>
            <a:ext cx="961920" cy="914400"/>
          </a:xfrm>
          <a:prstGeom prst="star5">
            <a:avLst/>
          </a:prstGeom>
          <a:solidFill>
            <a:srgbClr val="93ea84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IN 1996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SUPPLIES OF BATCH 1 ANTIBODIES PRODUCED BY KPL WERE DEPLET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KPL PRODUCED THE BATCH 2 ANTIBODI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IS SECOND GROUP OF REAGENTS PRODUCED ELISA OPTICAL DENSITIES THAT WERE INCONSISTENT WITH BATCH 1 ANTIBODI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KPL ANTIBODY TIMELIN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1980’S TO 1996:  KPL BATCH 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1996 TO 2003:  KPL BATCH 2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2003:  NEW KP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0" y="1031760"/>
          <a:ext cx="9144000" cy="479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31760"/>
                    <a:ext cx="9144000" cy="479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2362320" y="304920"/>
            <a:ext cx="43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KPL Antibodies:  Good Vs. Ba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0" y="0"/>
          <a:ext cx="9013680" cy="652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36440" y="68400"/>
          <a:ext cx="8934480" cy="67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440" y="68400"/>
                    <a:ext cx="8934480" cy="67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7162920" y="23623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NFHPC LAB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68400" y="303120"/>
          <a:ext cx="9001080" cy="619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00" y="303120"/>
                    <a:ext cx="900108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IDFG EXPECTS A CULLING RATE OF 10% STATEWIDE 2003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UTH FORK TRAP:  5.92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WELL TRAP:  12.07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EARWATER:  19.84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AWTOOTH: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3.00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WORSHAK NFH:  7.60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APID RIVER:  13.40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HSIMEROI:  0.90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TATEWIDE MEAN:  10.60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CONCLUSIONS: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NEW (2003) KPL COATING AND CONJUGATED ANTIBODIES ARE EQUIVALENT TO THE FIRST REAGENT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IDFG HAS UTILIZED THESE REAGENTS DURING 2003 CHINOOK SPAWNING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971800" y="228600"/>
            <a:ext cx="3276720" cy="533520"/>
          </a:xfrm>
          <a:prstGeom prst="rect">
            <a:avLst/>
          </a:prstGeom>
          <a:solidFill>
            <a:srgbClr val="6699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0" name="BKD%20Fish" descr=""/>
          <p:cNvPicPr/>
          <p:nvPr/>
        </p:nvPicPr>
        <p:blipFill>
          <a:blip r:embed="rId1"/>
          <a:srcRect l="3333" t="0" r="0" b="7515"/>
          <a:stretch/>
        </p:blipFill>
        <p:spPr>
          <a:xfrm>
            <a:off x="0" y="1090440"/>
            <a:ext cx="9059760" cy="57675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975400" y="130320"/>
            <a:ext cx="33231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58c"/>
                </a:solidFill>
                <a:latin typeface="Times New Roman"/>
              </a:rPr>
              <a:t>BKD LESION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52280" y="1066680"/>
            <a:ext cx="845820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58c"/>
                </a:solidFill>
                <a:latin typeface="Tahoma"/>
              </a:rPr>
              <a:t>Thanks and Appreciation to: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Ron Pascho,WFR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Dorothy Chase, WFR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Eagle Laboratory Staff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Kimberly True, USFW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ark Peterson, NMF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ark Strom, NMF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Leslie Lindsay, ODFW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5" name="fish" descr=""/>
          <p:cNvPicPr/>
          <p:nvPr/>
        </p:nvPicPr>
        <p:blipFill>
          <a:blip r:embed="rId1"/>
          <a:stretch/>
        </p:blipFill>
        <p:spPr>
          <a:xfrm>
            <a:off x="4800600" y="2362320"/>
            <a:ext cx="411480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PRIOR TO 1994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DFG TOOK A 60 FISH SAMPLE DURING CHINOOK SPAWNING USING DF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D NOT UTILIZE CULLING OR SEGREGATION TO MINIMIZE VERTICAL TRANSMISSION OF BK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PIZOOTICS OF BKD IN JUVENILE CHINOOK SALM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600200" y="0"/>
            <a:ext cx="5867280" cy="609480"/>
          </a:xfrm>
          <a:prstGeom prst="rect">
            <a:avLst/>
          </a:prstGeom>
          <a:solidFill>
            <a:srgbClr val="66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5" name="FAT%20of%20BKD" descr=""/>
          <p:cNvPicPr/>
          <p:nvPr/>
        </p:nvPicPr>
        <p:blipFill>
          <a:blip r:embed="rId1"/>
          <a:stretch/>
        </p:blipFill>
        <p:spPr>
          <a:xfrm>
            <a:off x="0" y="774720"/>
            <a:ext cx="9144000" cy="60832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600200" y="0"/>
            <a:ext cx="5918040" cy="5814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BKD Fluorescent Antibody Tes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SINCE 1994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DFG HAS PROVIDED AN INTEGRATED MANAGEMENT PROGRAM TO LIMIT LOSSES TO BK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ISA-BASED CULLING AND SEGREG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LSO INTRAPERITONEAL INJECTIONS OF ADULTS WITH ERYTHROMYCI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SINCE 1994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ODOPHOR DISINFECTION OF EGG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PHYLACTIC ERYTHROMYCIN MEDICATED FEED TREATMENT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AS LIMITED BKD EPIZOOTICS TO HIGH BKD SEGREGATION GROUP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ID-HATCH" descr=""/>
          <p:cNvPicPr/>
          <p:nvPr/>
        </p:nvPicPr>
        <p:blipFill>
          <a:blip r:embed="rId1"/>
          <a:stretch/>
        </p:blipFill>
        <p:spPr>
          <a:xfrm>
            <a:off x="1752480" y="228600"/>
            <a:ext cx="5524560" cy="6629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22" name=""/>
          <p:cNvSpPr/>
          <p:nvPr/>
        </p:nvSpPr>
        <p:spPr>
          <a:xfrm>
            <a:off x="1219320" y="2857680"/>
            <a:ext cx="24588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1000" y="2487600"/>
            <a:ext cx="24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380880"/>
            <a:ext cx="4800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Times New Roman"/>
              </a:rPr>
              <a:t>Idaho Department of Fish and Gam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03840" y="914400"/>
            <a:ext cx="2047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Times New Roman"/>
              </a:rPr>
              <a:t>Fish Hatcherie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84880" y="4457880"/>
            <a:ext cx="304560" cy="56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19320" y="3048120"/>
            <a:ext cx="195120" cy="164880"/>
          </a:xfrm>
          <a:custGeom>
            <a:avLst/>
            <a:gdLst/>
            <a:ahLst/>
            <a:rect l="l" t="t" r="r" b="b"/>
            <a:pathLst>
              <a:path w="92" h="139">
                <a:moveTo>
                  <a:pt x="1" y="0"/>
                </a:moveTo>
                <a:cubicBezTo>
                  <a:pt x="2" y="16"/>
                  <a:pt x="0" y="33"/>
                  <a:pt x="5" y="48"/>
                </a:cubicBezTo>
                <a:cubicBezTo>
                  <a:pt x="7" y="54"/>
                  <a:pt x="16" y="54"/>
                  <a:pt x="20" y="58"/>
                </a:cubicBezTo>
                <a:cubicBezTo>
                  <a:pt x="33" y="71"/>
                  <a:pt x="42" y="85"/>
                  <a:pt x="58" y="96"/>
                </a:cubicBezTo>
                <a:cubicBezTo>
                  <a:pt x="67" y="131"/>
                  <a:pt x="63" y="124"/>
                  <a:pt x="92" y="139"/>
                </a:cubicBezTo>
              </a:path>
            </a:pathLst>
          </a:custGeom>
          <a:noFill/>
          <a:ln w="381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112680" y="93600"/>
          <a:ext cx="8982000" cy="668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680" y="93600"/>
                    <a:ext cx="8982000" cy="668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128520" y="112680"/>
          <a:ext cx="8782200" cy="659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12680"/>
                    <a:ext cx="8782200" cy="65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6T20:27:50Z</dcterms:created>
  <dc:creator>idfg</dc:creator>
  <dc:description/>
  <dc:language>en-US</dc:language>
  <cp:lastModifiedBy>idfg</cp:lastModifiedBy>
  <dcterms:modified xsi:type="dcterms:W3CDTF">2003-11-26T21:56:18Z</dcterms:modified>
  <cp:revision>19</cp:revision>
  <dc:subject/>
  <dc:title>MANAGEMENT OF BACTERIAL KIDNEY DISEASE WITH THE “NEW” KIRKEGAARD AND PERRY ANTIBODIES</dc:title>
</cp:coreProperties>
</file>